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2C8-AB4A-42BD-8DAD-0FB82A69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01B-D9A3-42E6-B938-9428BB5A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E3A-BFA7-47B2-AD39-9996868B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97F-9AA8-48F7-9A15-1324998C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A5E7-38E9-4467-B496-8305FF09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739-3631-47FB-ADD7-F39F1F80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E05C-72BE-48A6-BB24-62E2A931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95CB-26D3-40C1-A2DD-0C760F2A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25CD-C4DB-461F-8A0D-5C2E077B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F2ED-BDB8-43E3-9553-7C01D622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050E-F1EE-4EB3-B5AA-FE1B30E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304-44DD-4A97-9860-58C8C42E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FFC0-253F-41A5-87FE-1FA2BD2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9BE-EDC2-4DF1-9184-BC8AE32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2F69-13DA-4D8E-A482-D45A1801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9835-B3AC-4A29-91B4-9D2B06E0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B011-F017-4749-92CC-97EF3D54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BBBA-9D59-45BE-B33F-4FB41283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6D3C6-BD63-40A4-9DDF-4CD4108A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68B0-6BA0-404F-8E5E-1BEA04BF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AA95-BA3F-4871-84EC-2149B462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6C29-BBD7-4105-B19E-7CA6BFE6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0DF-264C-4E32-A157-60F3813C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DACC-005B-4F55-8CBB-43ADE2BF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EC7C7-8C68-4F9B-B132-6F0CE2CA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1061-6E1F-40E0-A7CD-EB3D6A1F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B78E-705E-40B3-BE63-3334FF1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E87C-646F-4320-92F4-6FBCA8E7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D877-31EC-455A-BEA9-220143C8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ACDB-D665-4F0C-AC3B-3F21635D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D95D1-CA1A-4E99-9E4F-93DC5ADC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6C61-41EF-40EA-BDB6-A6699F08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5461-F68F-4C6A-8E74-87E5A21D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628-9572-4EDA-A78E-04E8E91C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9128-353F-4EAD-B597-B5C7D9E6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C6B8E-F0B3-4F9F-88AE-8FBFB35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12EB-FF4A-44AD-81AD-38963CAD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6BB4-2C6D-4F1F-B115-D7EF834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9BB7-8A5B-40A1-897A-0F57842F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7516C-64A1-4565-85CD-889E0504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33A7-7276-47C6-BDC7-2C82673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5D426-EB5F-477A-9BFB-7A787A3D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2E1E-E752-492D-B166-1A41B13A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1E9-43EE-4B5F-A5BF-185408A8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839-8CB0-48D3-8FE9-E63E0D2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256-E41A-4022-B939-11253978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06D-8167-4C33-84B7-7DDED44F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E4F-9295-4372-A86F-2FC684A2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37CF-C974-4206-A6A2-60DF5B334DE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4031-24CE-4767-BEF3-696D9A9F219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0DD1-4DE0-43D6-8152-8924B05BC91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CF75-C14E-4E30-AA8E-BF3FD614DD6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429680" y="14292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000240" cy="2714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"/>
          <p:cNvPicPr/>
          <p:nvPr/>
        </p:nvPicPr>
        <p:blipFill>
          <a:blip r:embed="rId3"/>
          <a:stretch/>
        </p:blipFill>
        <p:spPr>
          <a:xfrm>
            <a:off x="6345360" y="0"/>
            <a:ext cx="2798640" cy="2116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"/>
          <p:cNvPicPr/>
          <p:nvPr/>
        </p:nvPicPr>
        <p:blipFill>
          <a:blip r:embed="rId4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5"/>
          <a:stretch/>
        </p:blipFill>
        <p:spPr>
          <a:xfrm>
            <a:off x="0" y="407196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3000240" y="3960720"/>
            <a:ext cx="328644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6286680" y="3857760"/>
            <a:ext cx="2822400" cy="3000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4"/>
          <a:stretch/>
        </p:blipFill>
        <p:spPr>
          <a:xfrm>
            <a:off x="0" y="4511520"/>
            <a:ext cx="3070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3"/>
          <a:stretch/>
        </p:blipFill>
        <p:spPr>
          <a:xfrm>
            <a:off x="3071880" y="4500720"/>
            <a:ext cx="2855880" cy="2357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"/>
          <p:cNvPicPr/>
          <p:nvPr/>
        </p:nvPicPr>
        <p:blipFill>
          <a:blip r:embed="rId4"/>
          <a:stretch/>
        </p:blipFill>
        <p:spPr>
          <a:xfrm>
            <a:off x="0" y="4470480"/>
            <a:ext cx="31431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Admin</cp:lastModifiedBy>
  <dcterms:modified xsi:type="dcterms:W3CDTF">2022-11-23T20:21:51Z</dcterms:modified>
  <cp:revision>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